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719-7567-4DBD-8E57-BCED619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881-3E48-4788-8498-35BC450D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AB-9FCC-4BAD-91C2-1AD3705B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44A-5371-49C4-8D28-6684BA94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5688-323A-4AD9-8FC5-29408932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FA1-A755-4684-B17C-99477B7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B6B-C0A7-4FDA-AB2C-8F36D82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C59B-3767-4C71-9928-BDA218B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1C88-5A30-431A-8156-26B00BC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407-5E39-4966-9073-9D0AB29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E507-4317-4F6D-B6B7-A218E9B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7B3-D1C1-4065-9686-807814DA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1196-BBBD-46B7-B6DB-4DDBE0DE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66F-1F1B-46F5-9C66-F4623C2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35BD-FA67-43BD-AE26-E8177F36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992F-3B7D-4F85-8117-5E87897D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FFD-A477-4C4F-8536-ED517069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D29-B318-4B7E-830E-FBE17B72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F50-E49B-4CB4-8991-C8D1B41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346-E1CF-4EE0-A891-BB5CE763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3EE-A0AD-45FB-97A3-C13745C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A9B-017C-4CF5-9827-3877074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C6B-0B72-4F02-9355-3C74540E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D2F-D0A4-4BCF-A40B-586B5B0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85C00-4AFE-498C-804F-EDD0898C1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5BCB8-929F-41C5-A230-077EBC2D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asser Arafat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ct 19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tt Gallo, Tabby Dods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0"/>
            <a:ext cx="5029200" cy="7559640"/>
          </a:xfrm>
          <a:custGeom>
            <a:avLst/>
            <a:gdLst>
              <a:gd name="textAreaLeft" fmla="*/ 360 w 5029200"/>
              <a:gd name="textAreaRight" fmla="*/ 5028840 w 50292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2467">
                <a:moveTo>
                  <a:pt x="6" y="0"/>
                </a:moveTo>
                <a:arcTo wR="6" hR="6" stAng="16200000" swAng="-5400000"/>
                <a:lnTo>
                  <a:pt x="0" y="32461"/>
                </a:lnTo>
                <a:arcTo wR="6" hR="6" stAng="10800000" swAng="-5400000"/>
                <a:lnTo>
                  <a:pt x="21594" y="32467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9200"/>
            <a:ext cx="4483080" cy="696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0"/>
            <a:ext cx="1828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143000"/>
            <a:ext cx="365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833400"/>
            <a:ext cx="32004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Book Antiqua"/>
              </a:rPr>
              <a:t>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3880" y="30168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asser Ar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Peace Priz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9000" y="4592520"/>
            <a:ext cx="13716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 efforts to make peace in the middle 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m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24200" y="1371600"/>
            <a:ext cx="42624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me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9920" y="1864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863720"/>
            <a:ext cx="914400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ttempt to solve the Arab-Israeli conflict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0934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2160" y="2481120"/>
            <a:ext cx="8686800" cy="4762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" y="2152800"/>
            <a:ext cx="3029040" cy="150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56440" y="210672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6200" y="2514600"/>
            <a:ext cx="2057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arly life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other died when he was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father was merch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ved with his un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ved in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dult lif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4800" y="182844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ity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estin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party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use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ha Arafat 1990–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- Zahwa Arafat (born)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8360" y="1767960"/>
            <a:ext cx="4424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9800" y="1828800"/>
            <a:ext cx="4114800" cy="29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33960" y="4390920"/>
            <a:ext cx="40957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